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204-11F4-466A-9E5F-D046D805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ECA-FFE8-44CD-9344-71EDC416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DC1-05E7-4B8C-9273-BE379471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A38-04B8-4AF9-95A2-5D2CDC60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22D-0818-4F4D-A62E-01A3C4AF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8F9-126B-4F0E-A37A-E0D74DF2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943-ABE7-452C-991D-9954F99A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73D-BC54-4842-BA84-9616ED01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B8B-C84B-422B-B34A-ADA6F7E8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E20-A724-491D-B028-AAC554B3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585-0D06-405D-BA6E-B7FE9AF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3C9-8AE1-479B-BD28-2722BDD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3D66-59DB-4A82-A103-B18511DF8C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360" y="1676520"/>
            <a:ext cx="67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D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69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6934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480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467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31520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373392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76520" y="3733920"/>
            <a:ext cx="6400800" cy="2603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1143000" y="205704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flipH="1" rot="10800000">
            <a:off x="6705720" y="205704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flipH="1" rot="10800000">
            <a:off x="1143000" y="3657600"/>
            <a:ext cx="533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 flipH="1" rot="10800000">
            <a:off x="8001000" y="3657600"/>
            <a:ext cx="457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93396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510516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flipH="1" rot="10800000">
            <a:off x="6934320" y="3505320"/>
            <a:ext cx="9903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flipH="1" rot="10800000">
            <a:off x="990720" y="3505320"/>
            <a:ext cx="914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39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69608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6960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396252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696080" y="83808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flipH="1" rot="10800000">
            <a:off x="5943600" y="1904760"/>
            <a:ext cx="2666880" cy="144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 flipH="1" rot="10800000">
            <a:off x="914400" y="167616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3505320"/>
            <a:ext cx="9903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670572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flipH="1" rot="10800000">
            <a:off x="7620120" y="762120"/>
            <a:ext cx="609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14:10:43Z</dcterms:modified>
  <cp:revision>217</cp:revision>
  <dc:subject/>
  <dc:title>Slide 1</dc:title>
</cp:coreProperties>
</file>